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96216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328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98400" y="4410000"/>
            <a:ext cx="560088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820000"/>
            <a:ext cx="3033720" cy="462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962160" y="8820000"/>
            <a:ext cx="3033720" cy="462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3D379CD-C88C-4282-AFF4-1D5D1C8F8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2520" y="8820000"/>
            <a:ext cx="3033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2BF2D0-5218-46A2-BFD7-DC7135D4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328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400" y="4410000"/>
            <a:ext cx="5600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980-E4FA-4640-A88B-2878E3FB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2BF-7414-487F-B82C-32AA41A7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A39-0357-457C-82F2-128A038F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429-047D-483B-BD3C-446C5F7E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1852-5E2A-43C3-BD6F-6BCEE506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63CA-7B9C-4061-B1C5-29733FF6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82AA-2A9F-4807-A902-5B9D6D1A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C0A6-482C-4FF4-A6D8-7A184815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3108-E818-4635-BC46-6EAC0EF3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AB60-003C-4A01-BA6A-F8517D89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F5C7-FD5A-4C45-8506-01617574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B10-D12F-444B-968E-19581381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82AA-0927-48AA-88E7-356F0DE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DF18-F0CF-4DFF-8112-8EAC8AA5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733F-15E7-4BD9-8365-DCAF8A81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A8AD-970B-426A-BB8B-7FA20D04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EC9D-E433-4157-8D1D-435D5924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F6CA-EBE3-43F9-8CBD-5DDDF360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0FEE-0A3F-44A8-A5E2-BEA11C0E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5044-BB2D-4D0E-A5BB-3057C2B2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FDA5-2280-48C8-886F-191AD738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3FB3-1692-4B9F-B905-F1730D4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318-E405-4E80-AF5D-4D01EC63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D32EB-7E20-4C90-B72E-1FBA2051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DE03-F2AF-46A8-B533-F382B990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D34F-BAA6-4105-A3BE-3EEC1F8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3B79-8D8B-45C6-AC19-4C4FCAC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8A8F-D354-46BD-8FA5-98D157B8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FAC3-74A4-4075-8AB3-F6FF7983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E69B-D102-45DB-906D-F5922938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C8F-3BC0-40DC-8365-EC38F7D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E7D-47EA-43C7-A469-A5FF833B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EF4-AC6E-42C8-A8AC-73E98FA8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FCB-2644-43E3-A3C4-FB7A6F30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BD4-91A0-4AEF-B170-EE4ABD4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687-01F8-4890-999F-323546B2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CB67-D5B0-49F7-902B-54C363D1D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lide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4356000" y="189000"/>
            <a:ext cx="4788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FE Background template"/>
          <p:cNvPicPr/>
          <p:nvPr/>
        </p:nvPicPr>
        <p:blipFill>
          <a:blip r:embed="rId3"/>
          <a:stretch/>
        </p:blipFill>
        <p:spPr>
          <a:xfrm>
            <a:off x="-252360" y="-355680"/>
            <a:ext cx="9937800" cy="601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C080-EE2B-47C8-8A7A-4358801B5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slid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8D27-509A-4B4A-A188-04AFDAC79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urriculum for Excellence Qual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760" y="207144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r Lena G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r John Al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cottish Qualifications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New smaller qualifications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48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Personal Developmen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odern Languages for Work Purposes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hinese Languag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mall Employability Awards – in partnership with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fe Road Use Award – in partnership with D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mall awards for MC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Qualifications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ajor qualifications developments in the past 3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have aimed to give us steady progress &amp; democratis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eater inclusion, social justice and equity for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eater teacher involvement, particularly in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creased fairness and fitness for purpose in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ore choice for centres, teachers/lecturers and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 more comprehensive and coher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creases in both level and number of qualifications at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Courses at SCQF levels 4 a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ew qualifications at SCQF 4 and 5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flect the learning of the new curriculum, including its brea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ovide a seamless transition from Outcomes and Experiences, with increased emphasis 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nsure that assessment supports, motivates and challenges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e inclusive, coherent and easy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ntinue to maintain high standards and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ovide opportunities for learners to develop at different rates, at different times, in different areas across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New Courses at levels 4 and 5: key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lace Standard Grade (General and Credit) and Intermediate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urses are unit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nits are internally assessed/not all 40 hours/not gra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CQF level 4: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ational 4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– course award based on achieving units and coursework assessment  - SQA will quality assure the assessment. Course not gr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CQF level 5: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ational 5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– course award based on achieving units, coursework assessment and external assessment by SQA – SQA will quality assure the internal assessment. Course gr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Literacy and Numeracy Qua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Available at SCQF levels 3, 4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Portfolio externally assessed  by S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Different broad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mponent based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Available from S3 onwards – for a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Also available for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SQA will work with partners to agree precise timing and details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9/10 and 2010/11 – new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1 - publication of Literacy and Numeracy qualif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2 – publication of new qualifications levels 2 t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3 – publication of new qualifications level 7; last Standard Grades + current Access 2 &amp; 3; Literacy and Numeracy Qualifications avail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4 – first new qualifications at levels 2 to 5; existing National Courses for S5 and 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5 – first new qualifications at level 6; existing National Courses for 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6 – first new qualifications at level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rther engagement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o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re/essential skills for learning, life an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ssessment: coursework, internal assessment, portfolio in Lit/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ormat of Units/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What should we do in the interim and beyon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55736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contribution can existing qualifications make to the development of the four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what extent do current SQA Course and Unit specifications reflect the principles of Curriculum for Excell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s the impact of qualifications on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s the relationship between assessment and learning in existing qualific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what extent are Core Skills and essential skills, and skills for learning, life and work integrated within existing qualif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Other qual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ver 30,000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kills for Work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Q Group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HN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ew Core Skills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ew smaller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cottish Baccalaure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0:18:56Z</dcterms:created>
  <dc:creator>M Jack</dc:creator>
  <dc:description/>
  <dc:language>en-US</dc:language>
  <cp:lastModifiedBy>IT Services</cp:lastModifiedBy>
  <dcterms:modified xsi:type="dcterms:W3CDTF">2009-11-10T11:15:04Z</dcterms:modified>
  <cp:revision>4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Not 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7-11-01T14:43:28Z</vt:filetime>
  </property>
  <property fmtid="{D5CDD505-2E9C-101B-9397-08002B2CF9AE}" pid="6" name="Objective-Date Received [system]">
    <vt:lpwstr>&lt;not set&gt;</vt:lpwstr>
  </property>
  <property fmtid="{D5CDD505-2E9C-101B-9397-08002B2CF9AE}" pid="7" name="Objective-Date of Original [system]">
    <vt:lpwstr>&lt;not set&gt;</vt:lpwstr>
  </property>
  <property fmtid="{D5CDD505-2E9C-101B-9397-08002B2CF9AE}" pid="8" name="Objective-DatePublished">
    <vt:lpwstr/>
  </property>
  <property fmtid="{D5CDD505-2E9C-101B-9397-08002B2CF9AE}" pid="9" name="Objective-FileNumber">
    <vt:lpwstr/>
  </property>
  <property fmtid="{D5CDD505-2E9C-101B-9397-08002B2CF9AE}" pid="10" name="Objective-Id">
    <vt:lpwstr>B1667069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No</vt:lpwstr>
  </property>
  <property fmtid="{D5CDD505-2E9C-101B-9397-08002B2CF9AE}" pid="13" name="Objective-ModificationStamp">
    <vt:filetime>2007-11-01T14:43:32Z</vt:filetime>
  </property>
  <property fmtid="{D5CDD505-2E9C-101B-9397-08002B2CF9AE}" pid="14" name="Objective-Owner">
    <vt:lpwstr>Donachie, Peter P (U002013)</vt:lpwstr>
  </property>
  <property fmtid="{D5CDD505-2E9C-101B-9397-08002B2CF9AE}" pid="15" name="Objective-Parent">
    <vt:lpwstr>Donachie, Peter P (U002013)</vt:lpwstr>
  </property>
  <property fmtid="{D5CDD505-2E9C-101B-9397-08002B2CF9AE}" pid="16" name="Objective-Path">
    <vt:lpwstr>Donachie, Peter P (U002013):</vt:lpwstr>
  </property>
  <property fmtid="{D5CDD505-2E9C-101B-9397-08002B2CF9AE}" pid="17" name="Objective-State">
    <vt:lpwstr>Being Edited</vt:lpwstr>
  </property>
  <property fmtid="{D5CDD505-2E9C-101B-9397-08002B2CF9AE}" pid="18" name="Objective-Title">
    <vt:lpwstr>Curriculum for Excellence - General Presentation</vt:lpwstr>
  </property>
  <property fmtid="{D5CDD505-2E9C-101B-9397-08002B2CF9AE}" pid="19" name="Objective-Version">
    <vt:lpwstr>0.2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2</vt:r8>
  </property>
</Properties>
</file>